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CA3EF-87A2-40E4-9CC5-6E52835616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AAAC2-CF97-4983-A3A4-C8515045C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7BA31-5388-403B-B5FB-5837D054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6F314-3AB7-49E8-B640-AD3391F3C0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21F69-9881-4BDA-B64F-A7749EF08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13DBA-46A6-4308-922D-26333972D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8C8E0-14A3-435A-AE1C-F749A3F97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8E5F8-84C5-4184-B64C-57741A44F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AEFE1-E53B-43D9-9DEF-0499E13E8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FE7B5-2607-4D69-A832-4FB34B5F7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715F0-83D9-437B-B431-BF54646A2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30FD5-7F7F-43A8-87CC-6D50BBFAB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92DFD-5FB1-42D9-9318-7E86408F7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000"/>
              <a:ext cx="9115560" cy="1808640"/>
              <a:chOff x="28440" y="5049000"/>
              <a:chExt cx="9115560" cy="18086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000"/>
                <a:ext cx="9115560" cy="18086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0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1412640"/>
            <a:ext cx="807732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二十一章  消毒与灭菌</a:t>
            </a:r>
            <a:br>
              <a:rPr sz="54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(Control of Infectious Dideases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首都医科大学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郑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1640" y="11430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消毒与灭菌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217160" y="2414520"/>
            <a:ext cx="6854760" cy="35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消毒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disinfection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灭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sterilization)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无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asepsis)\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无菌操作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抑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bacteriostasis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防腐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antisepsis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8960" y="92844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 物理消毒灭菌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11280" y="1999800"/>
            <a:ext cx="58672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㈠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热力灭菌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干热灭菌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焚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烧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繁殖体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0~100℃1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芽胞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0~170℃2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红外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09" name="Picture 5" descr="烧灼接种环"/>
          <p:cNvPicPr/>
          <p:nvPr/>
        </p:nvPicPr>
        <p:blipFill>
          <a:blip r:embed="rId1"/>
          <a:stretch/>
        </p:blipFill>
        <p:spPr>
          <a:xfrm>
            <a:off x="6172200" y="1038240"/>
            <a:ext cx="2684520" cy="2819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烧灼试管口"/>
          <p:cNvPicPr/>
          <p:nvPr/>
        </p:nvPicPr>
        <p:blipFill>
          <a:blip r:embed="rId2"/>
          <a:stretch/>
        </p:blipFill>
        <p:spPr>
          <a:xfrm>
            <a:off x="6143760" y="3786120"/>
            <a:ext cx="266688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42600" y="85680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湿热灭菌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53840" y="1785960"/>
            <a:ext cx="8103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巴氏消毒法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2℃ 30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2℃ 30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煮沸法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2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流动蒸汽消毒法（常压蒸汽消毒法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间歇蒸汽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5~80℃ 30~60min→37℃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过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 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压蒸汽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05Kg/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, 121.3℃, 15~3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42600" y="1285560"/>
            <a:ext cx="6119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㈡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辐射杀菌法（紫外线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2209680"/>
            <a:ext cx="8215200" cy="39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杀菌波长：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0~300n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50~260n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用最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杀菌原理：改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子构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→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复制→细菌死亡或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：空气、物体表面消毒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  30mi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*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人体应注意防护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760" y="1357200"/>
            <a:ext cx="4419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㈢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过滤除菌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85840" y="2428560"/>
            <a:ext cx="585792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理：物理阻留法，除去液体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体中的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滤菌器孔径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22μm/0.45μ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：血清、毒素、抗生素等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除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7" name="Picture 4" descr="06-蔡氏滤器"/>
          <p:cNvPicPr/>
          <p:nvPr/>
        </p:nvPicPr>
        <p:blipFill>
          <a:blip r:embed="rId1"/>
          <a:stretch/>
        </p:blipFill>
        <p:spPr>
          <a:xfrm>
            <a:off x="6137280" y="1747800"/>
            <a:ext cx="30067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00360" y="70920"/>
            <a:ext cx="397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Membrane filt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9" name="组合 51"/>
          <p:cNvGrpSpPr/>
          <p:nvPr/>
        </p:nvGrpSpPr>
        <p:grpSpPr>
          <a:xfrm>
            <a:off x="5143680" y="3841920"/>
            <a:ext cx="2209680" cy="2873160"/>
            <a:chOff x="5143680" y="3841920"/>
            <a:chExt cx="2209680" cy="2873160"/>
          </a:xfrm>
        </p:grpSpPr>
        <p:sp>
          <p:nvSpPr>
            <p:cNvPr id="120" name="Freeform 33"/>
            <p:cNvSpPr/>
            <p:nvPr/>
          </p:nvSpPr>
          <p:spPr>
            <a:xfrm>
              <a:off x="5143680" y="3841920"/>
              <a:ext cx="2209680" cy="2819520"/>
            </a:xfrm>
            <a:prstGeom prst="pie">
              <a:avLst/>
            </a:prstGeom>
            <a:noFill/>
            <a:ln w="7920">
              <a:solidFill>
                <a:srgbClr val="9f3fd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34"/>
            <p:cNvSpPr/>
            <p:nvPr/>
          </p:nvSpPr>
          <p:spPr>
            <a:xfrm>
              <a:off x="5362560" y="4389480"/>
              <a:ext cx="1762200" cy="2325600"/>
            </a:xfrm>
            <a:prstGeom prst="pie">
              <a:avLst/>
            </a:prstGeom>
            <a:solidFill>
              <a:srgbClr val="66ccff"/>
            </a:solidFill>
            <a:ln w="7920">
              <a:solidFill>
                <a:srgbClr val="9f3fd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2" name="组合 48"/>
          <p:cNvGrpSpPr/>
          <p:nvPr/>
        </p:nvGrpSpPr>
        <p:grpSpPr>
          <a:xfrm>
            <a:off x="305280" y="730080"/>
            <a:ext cx="3597840" cy="3138120"/>
            <a:chOff x="305280" y="730080"/>
            <a:chExt cx="3597840" cy="3138120"/>
          </a:xfrm>
        </p:grpSpPr>
        <p:sp>
          <p:nvSpPr>
            <p:cNvPr id="123" name="Freeform 12"/>
            <p:cNvSpPr/>
            <p:nvPr/>
          </p:nvSpPr>
          <p:spPr>
            <a:xfrm rot="6040200">
              <a:off x="885600" y="623880"/>
              <a:ext cx="2438640" cy="3200400"/>
            </a:xfrm>
            <a:prstGeom prst="pie">
              <a:avLst/>
            </a:prstGeom>
            <a:noFill/>
            <a:ln w="7920">
              <a:solidFill>
                <a:srgbClr val="009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Freeform 13"/>
            <p:cNvSpPr/>
            <p:nvPr/>
          </p:nvSpPr>
          <p:spPr>
            <a:xfrm rot="6040200">
              <a:off x="459360" y="979560"/>
              <a:ext cx="2438640" cy="2336760"/>
            </a:xfrm>
            <a:prstGeom prst="pie">
              <a:avLst/>
            </a:prstGeom>
            <a:solidFill>
              <a:srgbClr val="66ccff"/>
            </a:solidFill>
            <a:ln w="7920">
              <a:solidFill>
                <a:srgbClr val="009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Oval 14"/>
            <p:cNvSpPr/>
            <p:nvPr/>
          </p:nvSpPr>
          <p:spPr>
            <a:xfrm>
              <a:off x="1201680" y="20718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Oval 15"/>
            <p:cNvSpPr/>
            <p:nvPr/>
          </p:nvSpPr>
          <p:spPr>
            <a:xfrm>
              <a:off x="1506600" y="25290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Oval 16"/>
            <p:cNvSpPr/>
            <p:nvPr/>
          </p:nvSpPr>
          <p:spPr>
            <a:xfrm>
              <a:off x="820440" y="16146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591840" y="245268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Line 18"/>
            <p:cNvSpPr/>
            <p:nvPr/>
          </p:nvSpPr>
          <p:spPr>
            <a:xfrm flipV="1">
              <a:off x="1242720" y="2807280"/>
              <a:ext cx="376560" cy="66240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Text Box 36"/>
            <p:cNvSpPr/>
            <p:nvPr/>
          </p:nvSpPr>
          <p:spPr>
            <a:xfrm>
              <a:off x="500040" y="3408480"/>
              <a:ext cx="12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Times New Roman"/>
                </a:rPr>
                <a:t>bacteria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1" name="组合 49"/>
          <p:cNvGrpSpPr/>
          <p:nvPr/>
        </p:nvGrpSpPr>
        <p:grpSpPr>
          <a:xfrm>
            <a:off x="4038480" y="1447920"/>
            <a:ext cx="3318120" cy="2133360"/>
            <a:chOff x="4038480" y="1447920"/>
            <a:chExt cx="3318120" cy="2133360"/>
          </a:xfrm>
        </p:grpSpPr>
        <p:sp>
          <p:nvSpPr>
            <p:cNvPr id="132" name="Oval 3"/>
            <p:cNvSpPr/>
            <p:nvPr/>
          </p:nvSpPr>
          <p:spPr>
            <a:xfrm>
              <a:off x="4038480" y="1447920"/>
              <a:ext cx="2210040" cy="213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Oval 4"/>
            <p:cNvSpPr/>
            <p:nvPr/>
          </p:nvSpPr>
          <p:spPr>
            <a:xfrm>
              <a:off x="4428720" y="1857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Oval 5"/>
            <p:cNvSpPr/>
            <p:nvPr/>
          </p:nvSpPr>
          <p:spPr>
            <a:xfrm>
              <a:off x="5072040" y="1857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Oval 6"/>
            <p:cNvSpPr/>
            <p:nvPr/>
          </p:nvSpPr>
          <p:spPr>
            <a:xfrm>
              <a:off x="5715000" y="2990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Oval 7"/>
            <p:cNvSpPr/>
            <p:nvPr/>
          </p:nvSpPr>
          <p:spPr>
            <a:xfrm>
              <a:off x="5072040" y="2990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Oval 8"/>
            <p:cNvSpPr/>
            <p:nvPr/>
          </p:nvSpPr>
          <p:spPr>
            <a:xfrm>
              <a:off x="5715000" y="2428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Oval 9"/>
            <p:cNvSpPr/>
            <p:nvPr/>
          </p:nvSpPr>
          <p:spPr>
            <a:xfrm>
              <a:off x="5072040" y="24192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Oval 10"/>
            <p:cNvSpPr/>
            <p:nvPr/>
          </p:nvSpPr>
          <p:spPr>
            <a:xfrm>
              <a:off x="4428720" y="2428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Oval 11"/>
            <p:cNvSpPr/>
            <p:nvPr/>
          </p:nvSpPr>
          <p:spPr>
            <a:xfrm>
              <a:off x="5705280" y="1847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Oval 21"/>
            <p:cNvSpPr/>
            <p:nvPr/>
          </p:nvSpPr>
          <p:spPr>
            <a:xfrm>
              <a:off x="4428720" y="2990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35"/>
            <p:cNvSpPr/>
            <p:nvPr/>
          </p:nvSpPr>
          <p:spPr>
            <a:xfrm>
              <a:off x="6464160" y="2828880"/>
              <a:ext cx="89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Times New Roman"/>
                </a:rPr>
                <a:t>pores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Line 37"/>
            <p:cNvSpPr/>
            <p:nvPr/>
          </p:nvSpPr>
          <p:spPr>
            <a:xfrm flipH="1" flipV="1">
              <a:off x="5929200" y="2643120"/>
              <a:ext cx="571320" cy="42840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4" name="组合 50"/>
          <p:cNvGrpSpPr/>
          <p:nvPr/>
        </p:nvGrpSpPr>
        <p:grpSpPr>
          <a:xfrm>
            <a:off x="2590920" y="4267080"/>
            <a:ext cx="2209680" cy="2133720"/>
            <a:chOff x="2590920" y="4267080"/>
            <a:chExt cx="2209680" cy="2133720"/>
          </a:xfrm>
        </p:grpSpPr>
        <p:sp>
          <p:nvSpPr>
            <p:cNvPr id="145" name="Oval 19"/>
            <p:cNvSpPr/>
            <p:nvPr/>
          </p:nvSpPr>
          <p:spPr>
            <a:xfrm>
              <a:off x="2590920" y="4267080"/>
              <a:ext cx="2209680" cy="2133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Oval 20"/>
            <p:cNvSpPr/>
            <p:nvPr/>
          </p:nvSpPr>
          <p:spPr>
            <a:xfrm>
              <a:off x="3214800" y="585792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Oval 22"/>
            <p:cNvSpPr/>
            <p:nvPr/>
          </p:nvSpPr>
          <p:spPr>
            <a:xfrm>
              <a:off x="4276800" y="5857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Oval 23"/>
            <p:cNvSpPr/>
            <p:nvPr/>
          </p:nvSpPr>
          <p:spPr>
            <a:xfrm>
              <a:off x="3633840" y="5857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Oval 24"/>
            <p:cNvSpPr/>
            <p:nvPr/>
          </p:nvSpPr>
          <p:spPr>
            <a:xfrm>
              <a:off x="2919240" y="5286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Oval 25"/>
            <p:cNvSpPr/>
            <p:nvPr/>
          </p:nvSpPr>
          <p:spPr>
            <a:xfrm>
              <a:off x="4276800" y="5286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Oval 26"/>
            <p:cNvSpPr/>
            <p:nvPr/>
          </p:nvSpPr>
          <p:spPr>
            <a:xfrm>
              <a:off x="3633840" y="5286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Oval 27"/>
            <p:cNvSpPr/>
            <p:nvPr/>
          </p:nvSpPr>
          <p:spPr>
            <a:xfrm>
              <a:off x="3429000" y="542916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Oval 28"/>
            <p:cNvSpPr/>
            <p:nvPr/>
          </p:nvSpPr>
          <p:spPr>
            <a:xfrm>
              <a:off x="4276800" y="4714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Oval 29"/>
            <p:cNvSpPr/>
            <p:nvPr/>
          </p:nvSpPr>
          <p:spPr>
            <a:xfrm>
              <a:off x="2928960" y="4714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Oval 30"/>
            <p:cNvSpPr/>
            <p:nvPr/>
          </p:nvSpPr>
          <p:spPr>
            <a:xfrm>
              <a:off x="3633840" y="4714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Oval 31"/>
            <p:cNvSpPr/>
            <p:nvPr/>
          </p:nvSpPr>
          <p:spPr>
            <a:xfrm>
              <a:off x="2928960" y="492912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Oval 32"/>
            <p:cNvSpPr/>
            <p:nvPr/>
          </p:nvSpPr>
          <p:spPr>
            <a:xfrm>
              <a:off x="3714840" y="47862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Oval 38"/>
            <p:cNvSpPr/>
            <p:nvPr/>
          </p:nvSpPr>
          <p:spPr>
            <a:xfrm>
              <a:off x="2919240" y="5857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9" name="Line 39"/>
          <p:cNvSpPr/>
          <p:nvPr/>
        </p:nvSpPr>
        <p:spPr>
          <a:xfrm>
            <a:off x="4500720" y="3643200"/>
            <a:ext cx="0" cy="45720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99800" y="928440"/>
            <a:ext cx="507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二 化学消毒灭菌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12400" y="2058480"/>
            <a:ext cx="6459480" cy="37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常用化学消毒剂的种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化学消毒剂的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使微生物蛋白变性或凝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干扰微生物的酶系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损伤菌细胞膜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病毒包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14760" y="857160"/>
            <a:ext cx="3657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小  结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71320" y="2201400"/>
            <a:ext cx="8001000" cy="35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消毒、灭菌、无菌、抑菌、防腐的概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消毒与灭菌的区别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物理消毒灭菌方法：热力、紫外线、过滤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化学消毒剂的种类及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影响消毒灭菌效果的因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7T15:52:53Z</dcterms:created>
  <dc:creator>mg</dc:creator>
  <dc:description/>
  <dc:language>en-US</dc:language>
  <cp:lastModifiedBy>正版用户</cp:lastModifiedBy>
  <dcterms:modified xsi:type="dcterms:W3CDTF">2014-05-26T01:33:55Z</dcterms:modified>
  <cp:revision>49</cp:revision>
  <dc:subject/>
  <dc:title>没有幻灯片标题</dc:title>
</cp:coreProperties>
</file>